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85C7-EA02-40EF-A40D-771862D84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7843-7F24-4292-B6D4-2B3617C9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E18D-D55C-42EC-B3DB-2938B89EF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7BD4-CEA5-4E98-A131-DEFB7AA13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97E7-BCCA-4745-80F1-7314748CD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CE6E-F05A-42DF-9B71-65F4E3F0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C153-5464-41AA-BB74-882456E6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9D17-EA60-4318-9A97-EF13D69A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DA8E-1457-4999-A64B-9AB26E87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34DC-B28B-4603-9628-1EBE9251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E053-66E8-4A01-A121-E27D555E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8380-993F-48D8-981A-63AED26E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213C-3C68-4A1E-9EE2-0B271CD3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3AA3-71A0-45CA-9A13-E4721045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2BEF-E989-4C6D-A169-89FC0BD5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2EF5-1E9A-4E3C-AE2C-1496CB177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6C56-8320-429A-BBA7-7F48006B0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C768-9EB2-4B6D-9E80-22541EF7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5E0A-3581-44F1-9A1C-5AD77C46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DE71-DD2D-4909-B231-071F0A9B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C79C-CC66-48BE-9F24-023B1389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E1EA-A33C-4BA3-BBBE-37DCABDC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A739-DE56-4990-AA73-68DBF519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69E4-5EF7-4AF8-858B-120E5D95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B7E1-7013-4F83-A516-CAF6E4EBD74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801D-27A0-4CBC-B506-7183159F183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1200" y="16668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Defini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38360" y="0"/>
            <a:ext cx="182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Characteristi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3120" y="351936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Exampl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95600" y="3505320"/>
            <a:ext cx="18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Non-exampl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071880" y="2514600"/>
            <a:ext cx="3024000" cy="1819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28600" y="3886200"/>
            <a:ext cx="37339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deo Games (FF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e Townshend / V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x Wes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ve Wr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ting into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24280" y="304920"/>
            <a:ext cx="167652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cap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u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ght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449568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ing (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s / Restrictions/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19920" y="304920"/>
            <a:ext cx="190476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ilosoph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um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d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g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c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609480"/>
            <a:ext cx="41911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ner “Firetruck”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state of mind induced by an activity and characterized by total immersion in the activity and a feeling of eupho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11:50:39Z</dcterms:created>
  <dc:creator>000090hs</dc:creator>
  <dc:description/>
  <dc:language>en-US</dc:language>
  <cp:lastModifiedBy>000090hs</cp:lastModifiedBy>
  <dcterms:modified xsi:type="dcterms:W3CDTF">2008-09-05T13:17:29Z</dcterms:modified>
  <cp:revision>3</cp:revision>
  <dc:subject/>
  <dc:title>Slide 1</dc:title>
</cp:coreProperties>
</file>